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E0D-B3E5-43EC-ABA4-89503E34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FDC-9D21-4A10-90E7-6AE903D2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1EF-271F-4217-83C0-0EBC03E9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480B-BD72-429F-B0BE-E35F0A01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AD41-E1B0-45B0-988A-F923E905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F38-F6F8-43D8-B98B-F3B827EA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D427-62ED-4EE3-833E-952125E83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E14-EA49-414D-A653-30D7B4F7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01DE-4F80-42F3-A586-0437241A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41D-B0FE-46AB-B11E-9C5A42B7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2FF-9136-4D55-9731-79ED721F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70B-0096-4D1F-8EE1-1C261CF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497-5ADB-4AC5-ADB1-320EAFA9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3A4-6AB9-4BC0-B650-C8D2B4D1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07A-374F-4433-98D5-3165116A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92A-6DF9-40E0-9D89-04599BFC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CA2-E496-4789-A670-80B8605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9E1-A536-43F5-A117-B0B3BDE1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9D2-F93D-4BEB-92DB-3544600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385-3C58-4855-A37F-AE74BF1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872-4964-43E2-AC39-3BE19D0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172-F5E1-4077-A585-D113FB8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AC1F-687C-46DD-BB80-3F46FE7CC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cnn.com/WORLD/9708/25/berlin.wall.deaths/germany.map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410080" y="12193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What is the message of this cart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20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m:  What was the plan for containment against communism?                                    L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"/>
          <p:cNvPicPr/>
          <p:nvPr/>
        </p:nvPicPr>
        <p:blipFill>
          <a:blip r:embed="rId2"/>
          <a:stretch/>
        </p:blipFill>
        <p:spPr>
          <a:xfrm>
            <a:off x="0" y="965160"/>
            <a:ext cx="53974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99880" y="1720800"/>
          <a:ext cx="8844120" cy="5137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" y="1720800"/>
                    <a:ext cx="884412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"/>
          <p:cNvSpPr/>
          <p:nvPr/>
        </p:nvSpPr>
        <p:spPr>
          <a:xfrm>
            <a:off x="685800" y="457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Perspectives of the Cold War Evidence Ac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85800" y="1219320"/>
            <a:ext cx="8221680" cy="20746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irections:  As we go through this unit complete 5 perspective charts comparing the views of the Communists and the Capitalists on various Cold War events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ominos"/>
          <p:cNvPicPr/>
          <p:nvPr/>
        </p:nvPicPr>
        <p:blipFill>
          <a:blip r:embed="rId2">
            <a:lum bright="54000"/>
          </a:blip>
          <a:stretch/>
        </p:blipFill>
        <p:spPr>
          <a:xfrm>
            <a:off x="2195640" y="0"/>
            <a:ext cx="4394160" cy="677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The Domino Eff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The USSR had a lot of influence over many of the new communist countries (especially those in Europ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Book Antiqua"/>
              </a:rPr>
              <a:t>The USA did not want communism to spread any further – they were worried about the domino effect (one country becomes communist, then another, then another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the S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saw 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unify members under the control of the USSR and protect from capitalist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USSR and its satell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 - North Atlantic Treaty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unify members and deter Soviet invasion of Europ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Non- communist countries, led by 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4640" y="380520"/>
            <a:ext cx="2971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= N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= Warsaw 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= Neut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Containment and The Truman Doctr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0560" y="15998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SA hoped to contain communism and not allow it to spread.</a:t>
            </a:r>
            <a:r>
              <a:rPr b="0" lang="en-US" sz="36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Truman Doctri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in March 1947 promised that the USA would support countries who wanted to resist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4734"/>
          <p:cNvPicPr/>
          <p:nvPr/>
        </p:nvPicPr>
        <p:blipFill>
          <a:blip r:embed="rId2"/>
          <a:stretch/>
        </p:blipFill>
        <p:spPr>
          <a:xfrm>
            <a:off x="0" y="2209680"/>
            <a:ext cx="2657520" cy="333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estions for analyzing the Truman Doctrine</a:t>
            </a:r>
            <a:br>
              <a:rPr sz="31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wo alternative ways of life in section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and B describing? How do you k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wo of Truman’s beliefs in your own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opic of section 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ection 5 how does totalitarianism grow?  Do you think this is correct?  Give a historical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6 say the USA needs to do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4120" y="3349800"/>
            <a:ext cx="3809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June of 1948, the French, British and American zones were joined into the nation of West Germany after the Soviets refused to end their occupation of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5334120" y="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viet blockade 1948- 194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eutschland_Besatzungszonen_1945_1946"/>
          <p:cNvPicPr/>
          <p:nvPr/>
        </p:nvPicPr>
        <p:blipFill>
          <a:blip r:embed="rId2"/>
          <a:stretch/>
        </p:blipFill>
        <p:spPr>
          <a:xfrm>
            <a:off x="0" y="0"/>
            <a:ext cx="5311800" cy="686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5302080" cy="68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9480" y="2971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048120" y="28954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477120" y="27432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st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7220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t B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 flipV="1">
            <a:off x="4114800" y="2438280"/>
            <a:ext cx="2362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4267080" y="12193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35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response, the Soviets cut off West Berlin from the rest of the world wit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lockad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building the Berlin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arte03gb"/>
          <p:cNvPicPr/>
          <p:nvPr/>
        </p:nvPicPr>
        <p:blipFill>
          <a:blip r:embed="rId2"/>
          <a:srcRect l="7252" t="0" r="4822" b="0"/>
          <a:stretch/>
        </p:blipFill>
        <p:spPr>
          <a:xfrm>
            <a:off x="3581280" y="0"/>
            <a:ext cx="5562720" cy="548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erman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24080"/>
            <a:ext cx="3514680" cy="3733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581280" y="6338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ventual site of the Berlin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924680" y="5486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495680" y="0"/>
            <a:ext cx="46483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rican and British troops air lifted supplies to Berlin to avoid the blockade for nearly 11 month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oviets gave in but the Berlin Wall remained up until 1989 and Berlin remained divid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b_mur7"/>
          <p:cNvPicPr/>
          <p:nvPr/>
        </p:nvPicPr>
        <p:blipFill>
          <a:blip r:embed="rId2"/>
          <a:stretch/>
        </p:blipFill>
        <p:spPr>
          <a:xfrm>
            <a:off x="380880" y="1371600"/>
            <a:ext cx="3886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1:26:31Z</dcterms:created>
  <dc:creator>Adam Berlin</dc:creator>
  <dc:description/>
  <dc:language>en-US</dc:language>
  <cp:lastModifiedBy>NYCDOE</cp:lastModifiedBy>
  <dcterms:modified xsi:type="dcterms:W3CDTF">2012-04-04T11:42:39Z</dcterms:modified>
  <cp:revision>68</cp:revision>
  <dc:subject/>
  <dc:title>Slide 1</dc:title>
</cp:coreProperties>
</file>